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7715-30CF-4C63-8F28-E1730DC3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1AC2-614F-4910-8CCA-483A342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65D2-92C2-4C7F-B74C-957473ED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7650-EFA0-4425-8AAA-C829E937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4CFB-7AF4-48E5-B7F8-8DB3A22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0498-8041-47ED-8C79-024BF45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45C2-054B-47DB-8356-D43F82DE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AC0-85F1-4B5B-8EFB-92F9852B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C0D-469F-41F4-B1D8-928000E6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1AA-39F4-4A4A-90C5-394988DC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241-A16E-434E-98A8-473CF0D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8798-1AB1-4013-B012-902B869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82E9-9A16-4676-81A4-5AAB8FF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00F5-90DE-45A7-8592-11231D3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F0DE-1469-4A61-9C2D-99CE8BF7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645-79CB-489F-BAF1-AC252CAB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6571-8760-4065-9045-52D0C62C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34F3-E2FB-4DAA-A328-87A5A470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F404-BE9F-460C-846B-8D48F593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27FF-F1D5-4359-AECA-B3C41B8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6CFF-714E-435A-B3B2-7D641AC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E20B-D2A3-4BA4-8C1D-2889613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5E73-7F7A-4821-8A3E-BA10286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28A1-4970-415F-93AE-EB13E9D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F16-35B0-4BCB-ABA5-15902BE1B2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C37-76A5-4222-97F7-7C6C916EF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Delivering care to the underserved: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creasing the Numbers of Minority Physicia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ben Gonzalez M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heories of reten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into’s Student  Departure Theo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academic integration and societal integrations are key. “college as a rites of passage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ulture integrity mode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One develops ways of affirming, honoring and incorporating the individual’s identity into the organization’s cultur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approaches used to increase acceptance and retention for UR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er Bridge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mental Educa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emental instruc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ng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rally Conscious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3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64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905120"/>
            <a:ext cx="2361960" cy="2133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981080"/>
            <a:ext cx="236196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124080"/>
            <a:ext cx="236232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279440"/>
            <a:ext cx="396252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ologies Puente has pioneered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ing an academic program to the local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grating culturally relevant literature into the core curricul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ing small learning communities that foster academic suc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ing in cross-disciplinary te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cessfully teaching students reading and writing in untracked, mixed-skills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be eligible for the University of California (19% vs. 6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3% rate of acceptance to 2 and 4 year college compared to 49% of all graduating high school senio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enroll in four year college (43% vs. 24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cceptance to UC increased 234% between 1999 and 200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sage rate of exit exa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English: 96% vs. 69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th: 81% vs. 56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ente - CCRMC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ealth Pathwa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shadowing opportunities and volunteering opportunities for those interested in health sc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a Puente-CCRMC health careers path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ngitudinal program throughout four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igh scho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 for exposures to different care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Health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Community Outreach Projects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 awareness of minority health 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ident/Faculty men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1817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providing health care to the underserv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recruiting underrepresented minorities into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we can learn about successful college-bou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e at CCRMC can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998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cial and Ethnic Disparities in Health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e of Medicine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disparities remain even after adjustment for socioeconomic differences and other healthcare access related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ces in treatment are not due to clinical factors such as racial differences in severity of disease or overuse of services by wh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atients are more likely to refuse treatments but this difference is small and do not fully explain healthcare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s of Institute of Medicine continued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sources-including health systems, healthcare providers, patients and utilization managers– may  contribute to racial and ethnic disparities in health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, stereotyping, prejudice, and clinical uncertainty on the part of healthcare providers may contribute to racial and ethnic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 of 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 Recommend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ase awareness to general public and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al, Regulatory and Policy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crease the proportion of underrepresented U.S racial and ethnic minorities among health professio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engthen the stability of patient-provider relationships in publicly funded health pl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Systems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of evidence-based guidelines, support community health workers, support the use of interpretation services, structure payment systems to ensure adequate supply of services to minority pati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Education and empowe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oss-Cultural Education in Health Prof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% are underrepresented racial and ethnic minorities (UR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medical graduates represent 9% of the country’s physici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3.3% are African American, 40.1% are Asian American, 24.9% are Hispanic, 1.8% are American Ind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1990 and 1994 increase to 12% of total of URM due to Project 3000 by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then there has been a dramatic decline due significant policy shifts regarding affirmative action and higher education admissions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concordance of patient and provider is associated with greater patient participation in care processes, higher patient satisfaction and greater adherence to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roviders are more likely than their non-minority colleague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ve in minority and medically underserved comm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hospital-based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FAMILY PRACTICE, ob/gyn, and pedia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iers to Recruiting U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5 Carrasquillo et al identified perceived barriers to enrollment of URM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ducational Preparation (e.g. MCAT scor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Role Mode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7 Davidson et al found that for dental students URM recruitment was enhanced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proportion of URM clinical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ility to care for diverse grou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M students suggest that summer enrichment programs were the most effective tools used by Medical schools to recruit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54% of recent high school graduates from low-income families pursue postsecondary education, compared to 88% of upper-income gradua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Latino students, in 1976 they made up 36% of college-age students. In 1997 it was 35.8%, however the Latino population had increased 20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students today have a lower persistence, graduation rates and levels of academic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2:13:16Z</dcterms:created>
  <dc:creator> </dc:creator>
  <dc:description/>
  <dc:language>en-US</dc:language>
  <cp:lastModifiedBy> </cp:lastModifiedBy>
  <dcterms:modified xsi:type="dcterms:W3CDTF">2009-06-02T02:26:48Z</dcterms:modified>
  <cp:revision>8</cp:revision>
  <dc:subject/>
  <dc:title>Delivering care to the underserved:  Increasing the numbers of Minority Physicians</dc:title>
</cp:coreProperties>
</file>